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F565-2C1A-48A1-91DF-F9E97E60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92BA-4B9C-4FAE-AB86-3243A324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4BEE-5811-469A-A158-57442EAAA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BDF7-09B9-4156-8697-5F6FF99A2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9F51-1856-45EB-8AD7-D2683DC4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6F68-1BE1-4625-8B39-B2217847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7D42-241C-44FC-A9B7-003AAA4E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E7D3-15F7-4352-ACD7-1955048C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75DF-E2EE-46A5-B332-132C96A0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B4A4-390D-4F59-B53F-520C5ABE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0EBA-0BE2-47A2-9336-AE908224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A93F-D9E9-4C54-81A6-AE7C8EA3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B7BF-42FB-4058-99C4-4367E7F8C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you let your food sit in sunl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testing to see if sunlight effects how fruit rotte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that sunlight will speed up decomposition because light has heat and heat causes fruit to r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ather all materi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lace one of each fruit in a lightened room and let s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lace one of each fruit in a dark room and let s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amine the fruit over a time period of 1-2 week and check it 2 times a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th Grade the fruit on how much it has rotten by seeing how soft it is on a scale of 1 to 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Apples, Bananas, P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k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 and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Open contai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= Light and Dar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t= How fast the fruit rott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led= Fr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e=1,1,2,3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ana=1,2,3,5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         1,2,3,4,5,6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k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e= 1,1,2,2,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ana= 1,1,2,3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STERLING  USD376</cp:lastModifiedBy>
  <cp:lastPrinted>2009-04-22T19:24:48Z</cp:lastPrinted>
  <dcterms:modified xsi:type="dcterms:W3CDTF">2010-05-10T16:25:50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